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53F-5A2F-4DB9-A3ED-D8089312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B7F-3E11-4FB9-851A-5B856AD8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C94EF-7E94-48CA-921B-9532A92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A6AAD-3A6A-4089-8692-3DE01962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9A9C9-1E9E-4391-8BCE-DF822B72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C9038-E67A-404C-87DF-B19292B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6E3D5-5549-4122-8272-3A705391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40CAC-74D9-4161-B513-8EE0E2E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53CE8-AD64-4E0B-85AF-437A50D2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34465-DAC4-4D39-B8A4-203CCD4C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00557-2416-4DCC-AAD8-6E5FCD74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D3C8F-C940-45E8-8500-6B1A93D6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1B0-54DC-454C-8029-89CC2078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A4802-7315-466E-9A8F-43F92367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EE8F5-EDE2-4AB7-9B03-DC85252E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3793-DFCB-4B95-BB0A-05B2F0B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01A97-D304-475C-A5C8-A812904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4F26C-2F7C-4C83-B7DD-7892EBC0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389B2-73B1-43EF-8365-6E59BC8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E70B4-9012-4404-AA66-D06F3A58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B38F4-FF57-4503-9E78-EC2C607E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73375-733B-4324-9642-975F9C02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4E108-9A17-437F-A9F2-D42EA453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124-92EC-48E5-83EC-FB905795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5639A-7682-43AD-96DE-4C4F7E97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8A6AF-A7C8-49BC-B536-93614C8F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DF8F-328D-4959-B5D3-039DDFBB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FF71A-D4C4-4275-9174-2F9F4929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9283E-1859-449D-A318-E76B5185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EC083-58B0-4564-9B79-840FDA39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C8E94-4C55-4129-97EA-B863D831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FB150-08D0-49E8-B38A-CBDD512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B4828-F3DC-4F42-96C7-FB3BF4B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9AE8-941A-43FC-B481-C979172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D902-8E53-4803-8EAE-102FC0A4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F0891-AB4A-4238-A851-1E5FF998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CB39E-8D83-40C0-99A2-33505AC6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2715A-196A-4528-9B55-92D700F9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27654-B1B4-471F-BE90-215CE456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7AC9B-9DCC-4585-8493-FC2A63C1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25CAE-D0D3-46B2-BA1B-886AFAC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44DEA-6722-4E19-AC6B-769CBBF3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8F690-B70C-4C86-B4FE-A8A54258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53109-F94E-4547-B7F7-A51CA57E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2325C-1757-477C-858B-EF984ED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A8CC-5220-4F79-9BBB-C50DD12D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7D9B1-5EF8-4A56-B710-E420DBC3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58F86-A52B-4887-AA19-3FC02D3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A1683-ECE8-4573-AD1A-15DF3B50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D1471-88E0-4F54-9C17-812E22EA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6065A-28BC-4394-85C8-0EFC09E8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F216-A4AE-4246-8706-091A60C7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4894-DF23-4689-8B5F-8418088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87DC-3DA7-4717-B646-1DCEA272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7F6-6921-41AB-91F5-BCA3C567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4DE-5A42-4753-ABA3-B355695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7EC-3471-46FE-8394-BFED1872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3130-2977-4F79-AB2F-C22D06CD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D216-3147-4CA7-A2CA-8AF005D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5A43-D484-4336-894A-54F4FC0A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95B7-3C76-4488-A7DA-3286347F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B018-4251-4798-83B1-391F6375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4562-78F1-4FCB-A265-19C6EEE3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AC23-1D21-496E-9D8D-293AB57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B854-C1F1-4956-A0F7-8B01A2DA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BE30-8E18-45FC-9EAA-5A256595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D815-78FC-4D4A-B3D7-C23D5AE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75B-4EF6-442E-ADA7-BFD842BC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0F1E-4C1A-416A-B20A-68DD510F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4B23-0358-4E3B-BE00-6E52692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5F9F-F7D0-4C48-B768-697E571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8C3E-60C2-4E2B-BB5E-FF1F728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6C36-0E0A-42CB-BC15-A4CDCC5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A442-1D8A-4318-933B-B658DF44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D55B-3C6F-45A9-8C53-C886555B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AF8F-E1B0-4539-BE91-E03B4EB5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191F-AA8A-4F9A-A16E-2449EA8C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2291-96D9-40AA-B88C-5071AFC3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55C-023C-4DB0-BA03-46DA17E6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278A-1892-4AF1-B683-EA54771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3E76-6219-4429-81DC-7CC4EE8E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888C-C041-4F3A-B70E-9103847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1006-CC7D-4B88-92FA-62B67269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5C07-D3F4-46ED-B9EF-BD9AFC1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BF13-8627-4163-92CF-AF4EAEF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9620-5629-4146-A3C7-4443A360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EA41-867F-46BB-BA8D-F78132A1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39DC-00AF-4521-80C8-99ADD2F5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E25CB-1209-4356-AB5F-01AC2597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3A1-D4F0-498E-8F64-9D841D5A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B46F-A371-4610-AE8B-B3E3CE52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057B-2A7F-4CB5-B933-3C9449BA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9C82F-7E4B-4217-876E-9D1AE0BF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9EF67-1440-4563-AC28-464693D5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F1B2B-7EB7-4CFE-8691-D296AE58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9DC7-5BF8-49E5-9F11-4161D12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B73E5-559B-4FD3-BEAA-C8C4FC79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00ED-70F3-4A24-9447-702C385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9B70-C9A3-407E-8631-E9854C22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36259-29C9-468E-A89A-48D099D6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087-B344-425E-A506-41C3F83F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59BB3-57E5-4ADA-9B98-891F3731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CF88-B959-4AC3-8F1E-7CB7BB93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3413B-2093-452D-9BDA-1ACD2AD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00C7F-0644-4587-9B64-AC70284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A546-71C1-4CDD-ACA1-3B3FE3B1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DB84-1E3C-4DA0-878D-6FE7A9AF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6593-2ABB-46D4-8FD6-E287AB53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5CCF4-7336-429E-969B-710888D6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7DA38-CF12-4420-A1BC-7ECE7723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A79F-491B-41B1-A275-2E7882F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6F9-F350-4241-B1D3-1B41C4FB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F494-804F-4A04-8A7F-54B5839A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44158-0AAD-43E5-8526-5B57B412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D3D74-1200-4BAD-9B18-1348E418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20AC-5198-4D49-9C1E-B89B96F7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60360-12B1-4163-999C-638B587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095E-E8C3-4AAB-B586-3599173D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D1ABA-345B-4F49-A0D9-3F281D9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8632E-9E21-4A0D-B8D7-499F270B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7249A-B3E0-4778-91B6-DAA6514A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B35A-40D0-48F8-AD11-2391DB0F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543-9A0C-402D-8807-C959BBC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882B8-2984-4E06-AA76-0A0A6C15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C84F-B3DE-4AE9-BF4D-438C6031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2DBB9-BEDB-415D-B6D0-FBBA0E95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8157F-D258-457E-8E2D-30868D50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2BCF-73B4-4982-85CB-81970BE2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D8730-3999-4B6A-A486-8F5E1BE6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DB4D9-0902-4F77-9843-C394EEE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CE68C-09F2-49F5-8BAB-209B2A2D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D343-6DBC-4132-B2F1-92996B26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C9FD3-32AF-4883-8B34-345CD7D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D21-B368-4D05-A28C-90C55119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26465-CFF5-4038-BABA-6EDC8128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88F3C-7C64-4139-8488-36FDC3E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42437-3D42-4CC2-BDD0-C13FE6B3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37992-2F13-432B-A5AD-8BB9FCC9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A0311-F9D1-45E8-8B42-EC343891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FD410-B317-4FF6-93C8-C45A8F74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1EA0-A5D5-4A85-A89E-07B5E636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C25EF-2995-4B77-BC5E-D99EA399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37D88-809D-4604-A3CD-259A366C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FD716-2A3B-4E2F-97C5-91D39906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079F-1451-4E2F-B9FE-D7AF742F96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3B46-E209-48BE-AAEC-7D588DD381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DAD5-B28B-4D25-9C97-12468801A7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F87F-D58A-46B1-A5CF-BF6EE25B7A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2913-7388-43B9-AE0B-9F31F43CE0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45F4-AC29-4861-8FE4-3ED6E82065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B1D2-E6A8-4029-BB14-A363B29896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855A-37B8-4728-8524-CCA656E7B2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570-59BD-4D88-91BB-67788894F1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E8AD-DB37-482A-A767-600E5621C5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1B3E-5DBA-4C2C-B4CA-38A682643E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8BB3-C90F-49B5-89F2-291D0E5D53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8 Z vesmírnej sláv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iel j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esmírnej slávy svetiel j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ri nám v ústre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pozdrav lásky Tvorcu kr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jeho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chvatný priestor nad zem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Božiu zvest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tvorstvom svojou veleb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vetov kraľ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dolia, stráne, horstiev p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šetko zjavuje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ž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Tvorca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apriek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hriechu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ás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tento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voju lásku vyspie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abý je hlas i c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obeť chvály požehn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chce ťa veleb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54:56Z</dcterms:modified>
  <cp:revision>30</cp:revision>
  <dc:subject/>
  <dc:title>Je veľký náš Pán, on slávy je Kráľ Nech do všetkých strán  spev vrúcnych znie chvál.</dc:title>
</cp:coreProperties>
</file>